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4D39-CBF3-4F15-B75D-2032B4ACB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of fragile state of content knowledge for teaching by teachers with whom we and other steering team leads hav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focus on CKT-M; a new vision with a focus on the big ideas in PtoA; anc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 and continued need to support MoE’s sharpened focus on differentiating instruction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year’s breakout sessions will now be interwoven throughout all sessions; these will support participants in their exploration of the big ideas and differentiating instruction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 t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stigate interconnections among these critical learnings as enabled throug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less speaking and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ing to expose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ding to provide appropriate scaffolding and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ic planning to embed student success indicators with framework for math camppp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networks within and across boards will continue to grow leadership across the provi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light of this year’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aching for Math GA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, a coaching dimension (specifically co-planning) will be embedded within the camppp.  This will provide participants with the opportunity to deepen their understanding of the big ideas and consider applications of DI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F52B-CF7A-4D51-82D7-D2CF9386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C9C5-67FC-4312-994C-D9B1C92D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CAD5-F6C7-4B0E-84BA-FA618DFB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435-8E58-41F6-B8EF-F14603BE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8C54-F521-450C-942A-2C37AA9B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ADBE-9780-4CD3-9114-93569515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9705-AAA6-430D-BC49-5C544541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AB49-1F48-4B8E-ABBE-8BF84F08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B13-A22F-44DA-859F-C9A86AD9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D936-9180-4CBC-B4A6-83BF7195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7FC2-2400-41DC-A8D7-A12D8E68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14D6-BC26-4D3B-8569-026A0A92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8F6B-DB36-424F-9229-5F3E422B2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95640" y="3122640"/>
            <a:ext cx="3205080" cy="3619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000" y="219852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earless Speaking and 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3080" y="1430280"/>
            <a:ext cx="183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sponding to Provide Appropriate Scaffolding and Challe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43120" y="9619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Questioning to Evoke and Expose Thi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5280" y="4167360"/>
            <a:ext cx="21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Establishing Math Talk Learning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495936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Assessment for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84720" y="2583000"/>
            <a:ext cx="26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Differentiated Instruction through Questi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4851360"/>
            <a:ext cx="162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Effective Uses of Manipulatives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3446640"/>
            <a:ext cx="30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Teaching through the Mathematical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08360" y="5672160"/>
            <a:ext cx="20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Consistency and Alignment of Assessments of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5211720"/>
            <a:ext cx="164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ff"/>
                </a:solidFill>
                <a:latin typeface="Arial"/>
              </a:rPr>
              <a:t>Building Networks Within and Across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5211720"/>
            <a:ext cx="169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ff"/>
                </a:solidFill>
                <a:latin typeface="Arial"/>
              </a:rPr>
              <a:t>Engaging in Reflective Practice through Co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35240" y="1463760"/>
            <a:ext cx="29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Deepening Understanding of Pedagogical Content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013120"/>
            <a:ext cx="144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Focusing on Important Mathema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27280" y="2185920"/>
            <a:ext cx="4140360" cy="4591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87300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Big Ideas of Number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A Focus on Proportional Reas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7920"/>
            <a:ext cx="644364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sion for Math CAMPPP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97360" y="2013120"/>
            <a:ext cx="169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Teaching for Conceptual Understa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5280" y="657360"/>
            <a:ext cx="5616360" cy="6167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16:55:35Z</dcterms:created>
  <dc:creator>Information Systems</dc:creator>
  <dc:description/>
  <dc:language>en-US</dc:language>
  <cp:lastModifiedBy>Information Systems</cp:lastModifiedBy>
  <dcterms:modified xsi:type="dcterms:W3CDTF">2010-06-05T16:56:09Z</dcterms:modified>
  <cp:revision>1</cp:revision>
  <dc:subject/>
  <dc:title>Slide 1</dc:title>
</cp:coreProperties>
</file>